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61035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4267-8C6A-4002-B18B-8850F9D8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8CB-BCD1-47C2-8033-70C456E1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E77-EDF9-4247-8CCE-9CEF6EE7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7FF-E5D7-40BE-81AF-3134F233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24A5-8206-4F7E-82EF-F6DF912A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8BA0-5054-4A9D-9C09-79E5BC90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B5BD-8090-4380-95BC-8F2AED8E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F6D2-10A3-48B2-A306-91174684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9CF8-6A92-4829-A50A-22460F64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57DE-109D-4EC5-BDD7-FA070B47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2716-85C5-4FF3-A153-4D4A7CB7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D885-624D-402D-B594-3A18B8B4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4AFC-91E6-4373-A2B8-D2E74A5B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919A-9710-405F-ADE6-6484A58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3828-1256-407D-BC4C-3C4DC7C2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B1B8-A186-4C2F-9846-1D33FB2E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2951-DFC6-4F04-BBA7-6B98928F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A83-BD5A-45E5-A237-885EB883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D56-09C3-4B6A-89A1-3DD5639A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C4A-ED07-4D8D-9828-1B6ECCB3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F5C-26AC-49D1-9509-E28E3FAC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BF2-D06A-41D1-8F0D-5EC5C09B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4B31-F85C-40C7-86CB-FC500766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197-366A-407E-8B4B-46EB805C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DD7C-5E99-4597-9256-F961063A3343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40"/>
          <p:cNvSpPr/>
          <p:nvPr/>
        </p:nvSpPr>
        <p:spPr>
          <a:xfrm>
            <a:off x="395280" y="1341360"/>
            <a:ext cx="835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6" name="Line 41"/>
          <p:cNvSpPr/>
          <p:nvPr/>
        </p:nvSpPr>
        <p:spPr>
          <a:xfrm>
            <a:off x="6084720" y="6597720"/>
            <a:ext cx="273708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7" name="Line 42"/>
          <p:cNvSpPr/>
          <p:nvPr/>
        </p:nvSpPr>
        <p:spPr>
          <a:xfrm>
            <a:off x="8820000" y="5877000"/>
            <a:ext cx="0" cy="7207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8" name="Line 43"/>
          <p:cNvSpPr/>
          <p:nvPr/>
        </p:nvSpPr>
        <p:spPr>
          <a:xfrm>
            <a:off x="4572000" y="260280"/>
            <a:ext cx="4176720" cy="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9" name="Picture 42" descr=""/>
          <p:cNvPicPr/>
          <p:nvPr/>
        </p:nvPicPr>
        <p:blipFill>
          <a:blip r:embed="rId2"/>
          <a:stretch/>
        </p:blipFill>
        <p:spPr>
          <a:xfrm>
            <a:off x="1979640" y="68400"/>
            <a:ext cx="5040360" cy="1199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5BB7-FB25-4BBF-897A-DD4B2DBEAE0E}" type="slidenum">
              <a:rPr b="0" lang="sr-Latn-C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8280" y="1413000"/>
            <a:ext cx="82170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ТЕГРИСАНЕ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КАДЕМСКЕ СТУДИЈЕ ФАРМАЦИЈЕ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Фармакологија 1</a:t>
            </a:r>
            <a:br>
              <a:rPr sz="2000"/>
            </a:br>
            <a:r>
              <a:rPr b="0" lang="sr-CS" sz="2600" spc="-1" strike="noStrike">
                <a:solidFill>
                  <a:srgbClr val="cc0000"/>
                </a:solidFill>
                <a:latin typeface="Calibri"/>
              </a:rPr>
              <a:t>Предавање </a:t>
            </a:r>
            <a:r>
              <a:rPr b="0" lang="en-US" sz="2600" spc="-1" strike="noStrike">
                <a:solidFill>
                  <a:srgbClr val="cc0000"/>
                </a:solidFill>
                <a:latin typeface="Calibri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3481560"/>
            <a:ext cx="8569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Фармакотерапија артеријске хипертензије и коронарне боле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доц. др Оливера Милованови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ци у терапији артеријске хипертенз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Нежељена дејства диуретик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пергликем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перлипидем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перурикем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хипокалемиј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помагнезијемј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спа и фотосензибилизациј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жељена дејства су дозно зависна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ета блокатори у терапији артеријске хипертенз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тензивни ефекат остварују смањењем периферног отпора путем смањења МВ срца и смањењем ослобађања ренина у бубре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етопролол, бисопролол, пропранолол, лабеталол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ндикације: хипертензија код пацијената млађе животне доби са неизмењеном функцијом миокар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имена бета блокатора код пацијената старије животне доби у високим дозама може довести до СИ или блока спровођења импул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та блокатори у терапији артеријске хиперт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презна примена бета блокатора као антихипертензива  код пацијената са коморбидитетима попут бронхијалне астме, дијабетеса мелитуса и периферне артериосклероз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терапији хипертензије се могу користити као монотерапија или као комбинована терап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са диуретицима и другим вазодилататори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ета блокатори у терапији артеријске хипертенз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599840"/>
            <a:ext cx="82580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жељена дејства бета блокатор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бронхоконстрикц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горшање срчане инсуфицијенциј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спорење АВ спровођењ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ораст триглицерида и смањење ХДЛ-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јноов феномен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оћне море, депресија, конфузиј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замор, летаргиј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мпотенциј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локатори Ca канала у терапији артеријске хипертензиј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отензивно дејство оставрују услед вазодилататорног ефекта углавном на артеријске крвне судо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ерапамил и њему слични анало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1,4 –дихидропирид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бензотиазеп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 терапији хипертензије се могу користити као монотерапија или као комбинована терапиј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осебан опрез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 потребан код комбиновања две подгрупе блокатора калцијумских канала (верапамила и дибензотиазепина) са лековима из групе бета блокатора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локатори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канала у терапији артеријске хипертензиј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жељена дејства блокатора Ca канал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стип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лавобоља 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риферни едем •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радикардија •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црвенило, палпит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казују негативно инотропно деј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ЦЕ инхибитори у терапији артеријске хипертенз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3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падају у групу индиректних вазодилатат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ледично услед вазодилатације долази до пада периферног отпора и снижења крвног притис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азодилататорни ефекат настаје услед инхибиције ангиотензин-конвертујућег ензима што доводи до смањења синтезе ангиотензина 2 и пораста нивоа брадикин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ЦЕ инхибитори: каптоприл, еналаприл, фосиноприл, периндоприл, зофеноприл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 се користити као моно или комбинована терапиј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ксна комбинација АЦЕ инхибитора и диуретик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- бољакомплијанса и бољи терапијски ефекат уз онемогућавање настанка електролитног дисбаланса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ЦЕ инхибитори у терапији артеријске хипертенз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дикација: блага до умерена хипертензија без постојања стенозе реналне артер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рочито су подесни за примену у терапији хипертензије код особа са дијабетесом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о и за терапију хипертензије код пацијената са срчаном инсуфицијенцијом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Трудноћа и урођени или идиопатски ангиоедем су апсолутне контраиндикације за примену АЦЕ инхибитора!!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ЦЕ инхибитори у терапији артеријске хиперт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жељена дејства АЦЕ инхибито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ув каша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перкалиј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еноза реналне артер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ални укус у устима, неутропенија, погоршање астме (каптопри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локатори АТ-2 рецептора у терапији артеријске хиперт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дикација: хипертензија код пацијената код којих је примена АЦЕ инхибитора довела до појаве сувог кашљ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осартан, валсартан, ирбесартан, телмисартан..- синоним за ову групу лекова САРТА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жељена дејства идентична АЦЕ инхибиторима осим појаве сувог кашља и ређег изазивања оспе.</a:t>
            </a:r>
            <a:br>
              <a:rPr sz="3200"/>
            </a:b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а хипертенз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Артеријска хипертензија се може дефинисати као присуство вредности систолног крвног притиска 140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 и више или дијастолног притиска 90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 и више или узимање антихипертензивне терап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Класификација хипертензије према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Arial"/>
              </a:rPr>
              <a:t>JNC-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Arial"/>
              </a:rPr>
              <a:t>у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int National Committee on Prevention, Detection, Evaluation, and Treatment of High Blood Pressure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) за одрасле особе старије од 18 година из 2017. годин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Нормалан ТА: систолни притисак испод 120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, диајстолни испод 80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рехипертензија:  систолни 120-129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, дијастолни испод 80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дијум 1:  систолни 130-139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, дијастолни 80-89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дијум 2: систолни ≥140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, дијастолни ≥90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локатори рецептора за алдостерон у терапији артеријске хипертенз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ставници: спиронолактон и еплерен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дикација: хипертензија која не реагује на примену других група антихипертенз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чешће се примењују као комбинована терап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иронолактон спречава хипетрофију комора срца код пацијената са хипертензијом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локатори рецептора за алдостерон у терапији артеријске хиперт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перкалијем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таболичка ацид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уролошки поремећа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инекомастија и импотеницја код мушкараца, а ирегуларност менструалног циклуса код жена услед примене спиронолакт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лфа блокатори у терапији артеријске хиперт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Хипотензивни ефекат настаје услед смањења периферног отпора насталог услед вазодилатације инудковане алфа блокаторо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едставници: празосин, теразосин, доксазосин, урапиди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дикације: умерена хипертенз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Урапидил- у терапији хипертензивне кри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жељени ефекти: рефлексна тахикардија, ретенција теч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Централни анитхипертензив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Агонисти пресинаптичких </a:t>
            </a:r>
            <a:r>
              <a:rPr b="0" lang="el-GR" sz="30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2 рецептора у КВ центру, смањују активност симпатичког нервног систем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едставници: алфа-метилдопа и клониди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дикације: умерено тешка хипертензија резистентна на друге леков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жељена дејства: ретенција воде и натријума (код дуготрајне примене), с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дација, замор, депресија, сува уста, постурална хипотензија, импотенција, крве дискразије (алфа-метилдопа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Директни вазодилататори у терапији артеријске хипертензије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Представници: хидралазин,миноксидил, диазокси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Индикације: умерена и тешка хипертензија али само уз диурети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Нежељена дејств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иноксидил –главобоља, конгестија носне слузокоже, рефлексна тахикардија, хирзутиза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Хидралазин-  главобоља, црвенило лица, рефлексна тахикардија, стање слично системском лупусу еритематодес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локатори адренергичких неурона у терапији артеријске хипертенз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дставници- гванетидин, резерпин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зерпин- због нежељених дејстава повучен из употреб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ванетидин- у терапији тешке хипертензије која је фармакорезистентна на друге медикамен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ронарна бол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норна болест -назив за скуп болести срца које настају услед смањеног протока крви кроз коронарне артериј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ноним: исхемијска болест ср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 етиопатогенезе исхемијских болести срца, код 95% случајева, налази се атероскелротични процес (процес који започиње у младости а кулминира са старењем организма или услед присуства ризико-фактор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птоми исхемијске болести срца настају услед  диспропорције снабдевености миокарда кисеоником и његове потребе за њ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ронарна бол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 зависности од облика корорнарне болести симптоми се могу јавити само приликом физичког напора или у потпуном мировањ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теросклеротичан плак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аби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естабил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руги фактори ризика: коронарне аномалије, коронарна дисекциј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рна болес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ктори ризика за коронарну болес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дине живот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перлипидемије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пертензиј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јабет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шење, алкох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зичка неактивност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екције, итд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арна бол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28400" y="1428480"/>
            <a:ext cx="8258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ронарна болест се може манифестовати као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нгина пекторис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нфаркт срц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оремећај срчаног ритма и провођењ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симптоматска коронарна болест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рчана слабост и напрасна срчана смр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од највећег броја пацијената коронарна болест се манифестује као ангина пекторис која се карактерише појавом болова иза грудне кости са тенденцијом  ширењем у леву руку или врат и диспнојом са осећајем страха од смр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нгина пекторис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Стабилна 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естабилна фор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а хипертенз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ласификација хипертензије према препорукама  Евроспког удружења за хипертензију (ЕСХ) и Европског кардиолошког удружења (из 2013. године адаптиране 2017. године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рехипертензија: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систолни притисак 130-139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, диајстолни 85-89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дијум 1 хипертензије: систолни притисак 140-159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, дијастолни 90-99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 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дијум 2 хипертензије: систолни притисак  160-179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, дијастолни 100-109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Стадијум 3 хипертензије: систолни притисак &gt; 180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, дијастолни &gt;110 </a:t>
            </a:r>
            <a:r>
              <a:rPr b="0" lang="sr-Latn-R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!!!!! 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ВИСОК КВС РИЗ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Фармакотерапија коронар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армакотерапија обухват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иагрегационе леков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та блокатор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итра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лцијумске антагонис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н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ЦЕ инхибитор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Т инхибит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сновни циљ медикамнетозне терапије су  смањење или елиминација ангинозних тегоба и побољшање прогно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Антиагрегациони лекови у терапији коронарне боле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Ацетилсалицилна киселина, тиклопидин, клопидогрел, тикагрел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римена аспирина у ниским дозама (75-150 мг/дан) остварује адекватан терапијски ефекат уз минималну могућност настанка крварењ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иенопиридини (тиклопидин и клопидогрел, тикагрелол)- некомпетитивно блокирају АДП рецепторе.  Ређа појава крварења као нежељеног дејства у односу на ацетилсалицилну киселин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Тикагрелол показује бољи фармаколошки профил у односу на клопидогрел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Дипиридамол- показује слабији антиагрегациони ефека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Најозбиљнија нежељена дејства из групе тиенопиридина показује </a:t>
            </a:r>
            <a:r>
              <a:rPr b="1" lang="sr-RS" sz="2200" spc="-1" strike="noStrike">
                <a:solidFill>
                  <a:srgbClr val="000000"/>
                </a:solidFill>
                <a:latin typeface="Calibri"/>
              </a:rPr>
              <a:t>тиклопидин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ета блокатори у терапији коронар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тичу на смањење смртности код пацијената са коронарном болешћ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Спречавају и одлажу појаву бола у грудима и депресије СТ-сегмента на ЕКГ-у  приликом физичког напор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ндиковани су у терапији превенције напада ангине пекторис код пацијената са хипертензијо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озитиван ефекат забележ код примене бета блокатора код пацијената после инфаркта миокарда или код срчане инсуфицијенциј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фикасно смањују симптоме и исхемију.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Примењују се: 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метопролол, бисопролол, атеноло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локатори Ca канала у терапији коронар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мањују afterload и утичу на смањење коронарног синдро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имена лекова из ове групе индикована је за превенцију напада код пацијента са ангином пекторис и хипертенз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тини у терапији коронарне боле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атини: симвастатин, росувастатин, правастатин, флувастатин, аторвастатин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Њихова употреба у примарној и секундарној превенцији коронарне болести се у већини спроведених истраживања показала као оправда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орцетрапиб- медикамент који доводи до повећања ХДЛ-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АЦЕ инхибитори у терапији коронарне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потреба лекова из ове групе у терапији стабилне ангине пекторис индикована ако су присутни коморбидитети попут хипертензије, дијабетеса, иснуфицијенције срца или инфаркта миокар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трати у терапији коронарне боле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троглицерол, пентаеритрол-тетранитрат, изосорбид моно и динитр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итиван ефекат у коронарној болести остварују путем смањења preload-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армакокинетске особености нитр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термитетна примена нитр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фекат нултог с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екови који утичу на отварање канала за калиј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1499760"/>
            <a:ext cx="8358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коранди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тварање канала за калијум врши дилатацију артерија и ве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зитиван ефекат остварује на превенцију акутног коронарног синдрома код пацијента са стабилном ангином пектор након прележаног инфаркта миокар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збиљно нежељено дејство: улцерације на кожи и слузокож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Блокатор јонских канала у коронарној боле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вабрад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апијски ефекат остварује услед инхибирања синусног чвора и смањења фреквенције срца и у миру и за време вежб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 се користити као монотерапија или комбинована терапија са бета блокаторима  у превенцији класичне ангине пектори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Триметазидин и ранолазин у терапији коронарне боле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фекат остварују услед смањења бета-оксидације масних киселина а повећања метаболизма глукоз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фикасни у превенцији напада ангине пектор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жељена дејства: продужење QT интервала, поремећај вида, зујање у уши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а хипертенз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560" y="1413000"/>
            <a:ext cx="8435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Најчешћа хронична, незаразна болес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Синоним “тихи убица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Лоша регулација тензије носи висок ризик од кардиоваскуларних исхода, тј. компликац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Према узрочним факторима хипертензија може бит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примарна ( фактори средине, генетски фактор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  <a:ea typeface="Arial"/>
              </a:rPr>
              <a:t>секундарна ( мултипла етиологија (ренална, васкуларна, ендокрина итд.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имарна, есенцијална, хипертензија се јавља код 90-95% случајев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Хипертензија се дијагностикује након повишених вредности крвног притиска измерене током три “одвојена” мере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Хипертензија “белог мантила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Терапија вазоспастичне ангине пектор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кид напада подразумева примену нитра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локатори Ca канала за прекид и смањење учесталости напада код пацијенат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а хипертенз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9280" y="1599840"/>
            <a:ext cx="8640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мпликације артеријске хипертензије видљиве на циљним органима: срце, мозак, бубрези, очи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Циљне вредности ТА !!!!- варијабилна категорија (старост и коморбидитети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онтроверзе у препорукама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следњих неколико година циљна вредност ТА је износила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40/90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mH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независно од година, и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30/80 mmHg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за индивидуе са дијабетес мелитусом, хроничном реналном болешћу и одређеним кардиоваскуларним обољењи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NC 8 за пацијенте ≥60 година дефинише циљну вредност  &lt;15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mH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uropean Society of Hypertension/European Society of Cardiology дефинише циљну вредност &lt; 140-15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mH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а хипертенз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56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Фармакотерапија артеријске хипертензије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иуретиц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ета блокат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локатори </a:t>
            </a:r>
            <a:r>
              <a:rPr b="0" lang="sr-Latn-RS" sz="25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канал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АЦЕ инхибит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локатори АТ-2 рецепто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локатори рецептора за алдостеро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Алфа блокат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Централни анитхипертензив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Директни вазодилататор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локатори адренергичких неуро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*  наведени агенси су погодни за започињање и одржавање антихипертензивног третм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а хипертенз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57120" y="1500120"/>
            <a:ext cx="83296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ада треба започети антихипертензивну терапију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код пацијената са високим или веома високим КВ ризиком анитхипертензивну терапију треба започети одма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код пацијената са умереним или ниским КВ ризиком терапију треба започети када су вредности ТА &gt; 140/90</a:t>
            </a:r>
            <a:r>
              <a:rPr b="0" lang="sr-Latn-RS" sz="2300" spc="-1" strike="noStrike">
                <a:solidFill>
                  <a:srgbClr val="000000"/>
                </a:solidFill>
                <a:latin typeface="Calibri"/>
                <a:ea typeface="Arial"/>
              </a:rPr>
              <a:t> mmH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Calibri"/>
              </a:rPr>
              <a:t>код старијих пацијената са антихипертензивном терапијом почети када су вредности систолног притиска ≥160</a:t>
            </a:r>
            <a:r>
              <a:rPr b="0" lang="sr-Latn-RS" sz="2300" spc="-1" strike="noStrike">
                <a:solidFill>
                  <a:srgbClr val="000000"/>
                </a:solidFill>
                <a:latin typeface="Calibri"/>
                <a:ea typeface="Arial"/>
              </a:rPr>
              <a:t> mmHg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, или ≥140</a:t>
            </a:r>
            <a:r>
              <a:rPr b="0" lang="sr-Latn-RS" sz="2300" spc="-1" strike="noStrike">
                <a:solidFill>
                  <a:srgbClr val="000000"/>
                </a:solidFill>
                <a:latin typeface="Calibri"/>
                <a:ea typeface="Arial"/>
              </a:rPr>
              <a:t> mmHg</a:t>
            </a: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 код пацијената млађих од 80 годин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Arial"/>
              </a:rPr>
              <a:t>Није неопходно започети антихипертензивну терапију код пацијената у стадијуму прехипертензије и код млађих пацијената са изолованом систолном хипертензијо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ци у терапији артеријске хиперт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отензивни ефекат остварују смањењем интраваскуларног волумена што накнадно доводи до смањења периферног отп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 наведене групе се као антихипертензивна терапија најчешће користе тиазидни диуретици и диуретици Хенлеове петљ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икације: блага хипертензија код старијих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порука је да се диуретици у терапији хипертензије дају у нижим дозама са најчешћим режимом дозирања сваки други дан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ци у терапији артеријске хипертен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уретици Хенлеове петље у терапији хипертензије имају предност над тиазидним диуретицима код пацијената са инсуфицијенцијом бубре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терапији хипертензије се најчешће користе као комбинована терапија (повољан ефекат не само на ниво тензије већ и на елиминацију нежељених дејстава диуретика)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20:01Z</dcterms:created>
  <dc:creator>Marko</dc:creator>
  <dc:description/>
  <dc:language>en-US</dc:language>
  <cp:lastModifiedBy>Marko</cp:lastModifiedBy>
  <dcterms:modified xsi:type="dcterms:W3CDTF">2018-02-01T10:26:40Z</dcterms:modified>
  <cp:revision>707</cp:revision>
  <dc:subject>Klinicki farmakolog</dc:subject>
  <dc:title>Verzija za sajt fakulteta</dc:title>
</cp:coreProperties>
</file>